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36D-F7F1-4CB9-983C-49182EFB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E8B-65A0-4C6F-A8E0-A0424AF8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FA4-9B4F-416A-BC8D-757D280B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955-A55D-41EE-926D-60A53224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67A-C7D0-49A7-8C8A-F568CA2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1FF-6B63-40C3-915D-0E6F431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D5A-C85B-417F-9F7D-692D37F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89C-2A64-4771-BC43-58B0730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B35-B2FD-4CA6-BC65-24015A7F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AC2-68DA-4407-9631-8041530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690-C48C-43C2-9652-2D9B8D1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A8C-7EE7-4D1A-B568-47E51BE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5B62-3CE1-42E7-B7E6-EA164FBE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Goudy Stout"/>
              </a:rPr>
              <a:t>Reactants 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Stout"/>
              </a:rPr>
              <a:t>Mo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Stout"/>
              </a:rPr>
              <a:t>Sh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Stout"/>
              </a:rPr>
              <a:t>M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Results are I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81480" y="2895480"/>
            <a:ext cx="34387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When the two reactants 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combined, a yellow 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precipitate was formed.   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715000"/>
            <a:ext cx="41148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 Black"/>
              </a:rPr>
              <a:t>Click Above To See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ooper Black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oper Black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Cooper Black"/>
              </a:rPr>
              <a:t>The purpose of this lab was to compare the mass of reactants and the mass of the products of the chemical re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6668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9296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oper Black"/>
              </a:rPr>
              <a:t>   </a:t>
            </a:r>
            <a:r>
              <a:rPr b="0" lang="en-US" sz="3200" spc="-1" strike="noStrike">
                <a:solidFill>
                  <a:srgbClr val="009999"/>
                </a:solidFill>
                <a:latin typeface="Cooper Black"/>
              </a:rPr>
              <a:t>The product of the two chemical reactants will equal the mass of one reactant + the mass of the other reactant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ooper Black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2600" y="3505320"/>
            <a:ext cx="2266920" cy="302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495288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286000"/>
            <a:ext cx="990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248520" y="3581280"/>
            <a:ext cx="0" cy="609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43400" y="1981080"/>
            <a:ext cx="3809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riple Beam Balance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29000" y="4419720"/>
            <a:ext cx="20383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st Tubes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d Beaker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10080" y="3048120"/>
            <a:ext cx="17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actants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Ou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27" t="33001" r="28127" b="35004"/>
          <a:stretch/>
        </p:blipFill>
        <p:spPr>
          <a:xfrm>
            <a:off x="0" y="160020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124080" y="2514600"/>
            <a:ext cx="8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Times New Roman"/>
              </a:rPr>
              <a:t>+0.1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6:36:26Z</dcterms:created>
  <dc:creator>default</dc:creator>
  <dc:description/>
  <dc:language>en-US</dc:language>
  <cp:lastModifiedBy>claguna</cp:lastModifiedBy>
  <dcterms:modified xsi:type="dcterms:W3CDTF">2008-05-29T18:41:43Z</dcterms:modified>
  <cp:revision>12</cp:revision>
  <dc:subject/>
  <dc:title>Slide 1</dc:title>
</cp:coreProperties>
</file>